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53D-4447-481F-A2C9-D0F96BE57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1C2C-4A5D-4028-8528-05E8EB06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C21E-976A-4416-B291-0406146E1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D5CE-6A47-4020-96CB-A4B602C7A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729B-60E1-4A7F-85C3-FC1C61381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7B9-DAF8-452F-B060-FB0527F09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31EC-4935-44C3-BD68-C41F9222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0BD9-6885-4DEE-92FE-FC28FC29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F99-6F03-40C7-A6A5-82B21734B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4D7-06DC-469F-A7BC-E5DDF8A1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3CB-ABA8-4D31-A9B0-0F59BA23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062-775A-43FD-9238-DBEBBE0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D16-93E1-44E1-8FC3-6053648E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BB45-2D7C-4FCF-BA58-B7CCC865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96A-6891-4764-B128-310669F4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0F02-931F-4010-BAAF-3D468CB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1C2-89EF-41A2-A1C8-97363654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304-0FD9-4BEC-96D1-91399AE4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FFAD-1B5E-41EF-BF7D-1C58F92B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770E-0413-4541-8F71-AD2C96C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653-66BD-4459-A4FA-112483F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9E42-A194-4075-8A61-D30B93C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34BA-339E-4091-8CA5-3965BD2B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F384-0D9C-42A2-836A-315A7CA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A5D7-391A-42DF-9796-11A887C5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3489-3DBF-41F6-B255-5854FEDA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C03-F814-4DB7-8D6A-5903A191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8FA-D3E9-4C59-9CA3-C48FA30F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077-0F1E-4886-B003-435EF057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418-C06F-4EA4-A2E8-7DB253CD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3F7-B52B-4487-AA96-B40B00A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D24-BEC3-4040-9B4D-3467C40C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DE7-0A49-43CD-8343-BFABB9D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61EF-25A8-43D3-9905-C6D4C653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E19F-77F7-4DF5-858C-27AB15B41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4720" y="3352320"/>
            <a:ext cx="5408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elix A. K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37160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1960" y="2437920"/>
            <a:ext cx="5715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is moving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can come from different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, S, E, W, NE, NW, SW,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re hurricanes, tornados, gales, bree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can we do with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2320" y="2895120"/>
            <a:ext cx="53337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 a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l a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electr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5998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the wind for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3048120"/>
            <a:ext cx="6324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f I had a windmill in my backyard…how could I use it for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3712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could mak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d-powered elev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28520" y="2552400"/>
            <a:ext cx="2062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windmill"/>
          <p:cNvPicPr/>
          <p:nvPr/>
        </p:nvPicPr>
        <p:blipFill>
          <a:blip r:embed="rId1"/>
          <a:stretch/>
        </p:blipFill>
        <p:spPr>
          <a:xfrm>
            <a:off x="228600" y="304812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an"/>
          <p:cNvPicPr/>
          <p:nvPr/>
        </p:nvPicPr>
        <p:blipFill>
          <a:blip r:embed="rId2"/>
          <a:stretch/>
        </p:blipFill>
        <p:spPr>
          <a:xfrm>
            <a:off x="2362320" y="3009960"/>
            <a:ext cx="2006640" cy="300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levator_lego"/>
          <p:cNvPicPr/>
          <p:nvPr/>
        </p:nvPicPr>
        <p:blipFill>
          <a:blip r:embed="rId3"/>
          <a:stretch/>
        </p:blipFill>
        <p:spPr>
          <a:xfrm>
            <a:off x="6629400" y="3048120"/>
            <a:ext cx="2031840" cy="30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elevator_paper"/>
          <p:cNvPicPr/>
          <p:nvPr/>
        </p:nvPicPr>
        <p:blipFill>
          <a:blip r:embed="rId4"/>
          <a:stretch/>
        </p:blipFill>
        <p:spPr>
          <a:xfrm>
            <a:off x="4495680" y="3048120"/>
            <a:ext cx="2032200" cy="3047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57200" y="6035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90920" y="60357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724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010280" y="603576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deo demonstra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2840" y="609552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UNP0028.AVI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SUNP0030.AVI" descr=""/>
          <p:cNvPicPr/>
          <p:nvPr/>
        </p:nvPicPr>
        <p:blipFill>
          <a:blip r:embed="rId2"/>
          <a:stretch/>
        </p:blipFill>
        <p:spPr>
          <a:xfrm>
            <a:off x="3987720" y="2133720"/>
            <a:ext cx="50799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0"/>
          <p:cNvSpPr/>
          <p:nvPr/>
        </p:nvSpPr>
        <p:spPr>
          <a:xfrm>
            <a:off x="1371600" y="495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5943600" y="5791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95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2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5790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deo demonstra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6880" y="62481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 ele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219320" y="5181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UNP0036.AVI" descr=""/>
          <p:cNvPicPr/>
          <p:nvPr/>
        </p:nvPicPr>
        <p:blipFill>
          <a:blip r:embed="rId1"/>
          <a:stretch/>
        </p:blipFill>
        <p:spPr>
          <a:xfrm>
            <a:off x="0" y="209556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17" name="SUNP0037.AVI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5943600" y="5943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98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984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6227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320" y="15235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did the Lego elevator not go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0" y="297144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was too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strong wind to power heavy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05:40Z</dcterms:created>
  <dc:creator>Anon ymous</dc:creator>
  <dc:description/>
  <dc:language>en-US</dc:language>
  <cp:lastModifiedBy>gross2</cp:lastModifiedBy>
  <dcterms:modified xsi:type="dcterms:W3CDTF">2012-03-15T23:02:47Z</dcterms:modified>
  <cp:revision>28</cp:revision>
  <dc:subject/>
  <dc:title>Wind </dc:title>
</cp:coreProperties>
</file>